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E2C-8549-4982-B5B5-14ACF31E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45E-320B-44B2-864D-E59DFD9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CF4-76A6-4DB9-AB55-E300DB97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DA7-9FC8-4AC0-AF92-4915473E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1C0-8F31-4413-A6EA-6B519E2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DCF-E4A3-429D-8160-723689EE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46A-AEDA-4B2D-801F-1565803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B92-BEF1-4DB1-9EC5-95EA3B2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B71-0175-4FA9-80B8-EA455A6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72B-1FA5-41FF-BF07-F67BEF5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941-28BF-451E-AE6A-837D8C2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556-4142-4E88-81BB-58297D5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D31-434C-4D1B-A2D2-A0B12DBE7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531821EAeikh_ph" descr=""/>
          <p:cNvPicPr/>
          <p:nvPr/>
        </p:nvPicPr>
        <p:blipFill>
          <a:blip r:embed="rId1"/>
          <a:stretch/>
        </p:blipFill>
        <p:spPr>
          <a:xfrm>
            <a:off x="35053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32004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ا هو اليومُ السعيد   فلتَفرحِ الشع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ه أتى الفادي المجيدْ ليَغفرَ الذُن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283304ZXGjFr_ph" descr="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380880"/>
            <a:ext cx="28958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ذا هو اليوم العظيم   وبهجةُ الأز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نِلنا به الوَعدَ القديم    بِرحمةِ الرَّحم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5845lPRFPG_ph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80880"/>
            <a:ext cx="24386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ُ الذي     وافَت بهِ الأم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بَشَّرَت بالمُنقِذِ        في ذُروةِ الأفل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08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80880"/>
            <a:ext cx="266688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 المُنير   بالكوكبِ المُشرِق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أتَتْ رُسْلُ القَدير  من آخرِ المَشرِق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7055414bIylNY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48520" y="38088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Arabic Transparent"/>
              </a:rPr>
              <a:t>هذا هو اليومُ السَّني  بمولِدِ الربّ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فَسَبِّحوا المَولى الغني تسبيحةَ الحُبِّ</a:t>
            </a:r>
            <a:r>
              <a:rPr b="0" lang="ar-S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44:26Z</dcterms:created>
  <dc:creator>SUZANNE.MD</dc:creator>
  <dc:description/>
  <dc:language>en-US</dc:language>
  <cp:lastModifiedBy>USER</cp:lastModifiedBy>
  <dcterms:modified xsi:type="dcterms:W3CDTF">2002-12-23T20:02:35Z</dcterms:modified>
  <cp:revision>2</cp:revision>
  <dc:subject/>
  <dc:title>PowerPoint Presentation</dc:title>
</cp:coreProperties>
</file>